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21A65-F0AF-4219-9BB2-FC475F19B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FE1F4-97F0-48D5-BF65-3B13664B8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4ADDC-CDEB-4441-B2B2-14A777B5B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FCD56-B208-47D6-8F1D-7C20B81DD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C9900-3BEA-45FA-8F68-1196D8203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C1A53-AF93-42A2-A328-F6DDEC35D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6F839-6C06-4AF3-BA5D-44AA289B5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DE736-FAA3-494F-AF38-6C2138217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4F94-59FF-4D8A-ABA6-7E88B5504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E77FF-35B5-433A-9D5C-C614EE438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B9A7B-B707-4C60-8D8A-73DB917A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9419-3CCF-429F-BEE5-9461279A0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730C-DF3B-4617-A3B6-704C14BE6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276E-6F21-4397-9A11-8C41662EB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C522A-D15C-4675-9A8F-F333304D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0EEBE-C702-40DE-854E-B394A2194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4CF0F-6067-4711-96CF-05E94525F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046353-46B5-4227-874E-595023061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EFDCF0-22DE-4493-A1D7-E21B68AA7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0B71CB-64DD-48D2-BED1-80C503838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8BE5A4-2474-4946-89C4-A3ECD846B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3AA856-6D8C-4576-AFB0-75C107049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6D57C-2CC6-48DE-AC20-8286C0225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0DCFEB-AA8B-4D27-8331-1B763CF4B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57542C-E581-4A3C-A866-C573408D6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30074C-C9A4-4DE8-9B2D-20C73DC21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E202A1-6BF7-4629-8082-C5A407B82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A694C0-8C05-4E7E-B1D9-CDB8E01F9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0AB20D-F327-47F1-8FCC-A48F7EDF66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C3A4E4-1CF9-4E70-943E-146729DF1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811E36-2843-4FB8-9F48-77829516B9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48E163-6ED9-4A4D-9107-9C8B0D1B7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55A54E-B0AA-4E51-AAC1-9D1B7C8D4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4F6A-B6A9-4A9F-BAB9-2B74AD12C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A00594-540D-40B4-9FD7-83EDBFFEF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88FBB4-A9D2-4641-BEAF-96E7434EA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174D5B-26D5-4ACD-8E66-CBA4B63BD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B1EE11-889C-4DC6-B74A-9644C8E8B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752851-0678-4C09-86B7-30F68B45D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B4ECE0-CF31-4CBA-9E1F-953FDB7CD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3CD2CA-3455-406C-A6E3-4E12DFE43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8EE369-869E-4D19-9F5D-10A534CE9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1F60BFF-2459-4EC5-9292-24926C2E8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7E3C1F-9225-48D8-8886-124D3CA5CC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98EA9-8EF7-4043-9B23-CD84E1425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2CDE7D-29C6-4E9E-A593-DABF740B0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CD9188-3D48-48A8-BDC7-B0173407F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055B4B-ABF1-4519-BF28-8E25DC111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AF33920-A6C0-4A05-AF4C-6826437DE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C413D4-3CE6-4B0E-A09B-0D7A76137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D7F741-18DE-4676-A9B3-1C147263D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529275-1B06-4286-8C1A-6624B0C27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CA695A-61FE-4083-A211-7C571E6BA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2D6CD4-75BB-4A16-A5D7-A4B38589A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3E5744-D958-49AE-824C-42EBA0167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09F5-6AC5-4773-BA47-DF077CA1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2E50765-36EC-4DB3-932F-B47A59C65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1C279C-7333-49C7-A15B-8FF4E2D4FC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6EB79-287A-458A-8204-44882F2D3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D5AEA-E866-4472-AA23-3042F5AF7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46A3D-A5A8-4EED-9CDA-11941DC32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9FE2A8-3DD4-4FDD-8E19-BA2678BF1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879B0-E1CC-4902-992E-0F1B56A19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E9594-BA55-4CBB-B1D1-B3F4A2351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8523F-5EE2-4AC8-A84E-A25F47F0B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FAB9C-A396-4A77-8045-E02BEC74D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A155-2688-44BD-A356-2972CE15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57B9E-9B95-4CFF-8B18-712782288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63367-CC08-4492-AE49-B27381C365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FF9ED6-B7E8-4BA0-8098-8F9495D05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2D01CA3-E915-4C68-AE08-0C9951377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BF8EDD-BFFE-4238-8B00-4694F5B48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5859B5-41D3-4958-A050-929FD63F6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F66384-AD25-4B07-A5A2-4241B99962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4E91F6-2A21-4235-96F5-4048800A7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697943-FCDC-4549-A4A9-93E6719A2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0031BE-0B11-4E19-BE58-7D347DC3B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C7A4-4B89-4FE8-83EF-5FB2C9DA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3A8983-9B62-4995-AC6B-F849FE06B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0DA33E-FCF8-4BF8-B0C0-F18C53FFA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248DC6-840F-47FE-8DD3-C4F2F1E863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114C9E-64E3-4395-8317-E1AE668B52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DC5DB88-5F2D-4583-AFBD-FAC4260992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4704C-14F7-4BD0-810D-B612F87EB0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4BE1C-8B6F-470D-AE4B-2398045364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801B9-0BB1-431C-9700-98F1E7676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C002E-43C3-4785-BF1D-F7E1567149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655A0-41AC-4489-86A8-22C07C94E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15F8-97E1-406F-B737-43FE201D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C456E-8E59-4934-ABC0-5945BDB208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E8058-7507-4B55-8E64-29B85C547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16B9C-0BAA-4012-AE47-B4D109EC2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D185E-B80F-4268-A588-B1FFEE51A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97675F-72BA-482B-989A-A5C23D828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0BF6A-6577-4988-AAA6-382EBFC23F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7FA266-D0DF-4AF8-979A-EEA563E4E5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9E2E-3802-4288-84B5-B2EB223D7BB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B6E3-49EB-4236-B39B-8E456D657465}" type="slidenum">
              <a:rPr b="1" lang="en-US" sz="1400" spc="-1" strike="noStrike">
                <a:solidFill>
                  <a:srgbClr val="eaebde"/>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2BCE-9C59-4A0D-8D33-08DE47B23C4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31DD-8F6E-4B3B-B15E-D908A3E9741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E328-D189-4EDF-A24C-F3FBAF53F0C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02B2-CEAC-4E16-BAA8-A9848FDCF980}" type="slidenum">
              <a:rPr b="1" lang="en-US" sz="1400" spc="-1" strike="noStrike">
                <a:solidFill>
                  <a:srgbClr val="676a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3D0C-0FEE-41BA-B8C3-058B7A067E0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DA5D-4C0E-46CC-B34B-6E612E3EAA9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achelorsdegreeonline.com/blog/2009/twitteredu-100-excellent-educational-twitter-feeds/" TargetMode="External"/><Relationship Id="rId2" Type="http://schemas.openxmlformats.org/officeDocument/2006/relationships/hyperlink" Target="http://teachpaperless.blogspot.com/2009/05/best-practices-in-twitter-enhanced-high.html" TargetMode="External"/><Relationship Id="rId3" Type="http://schemas.openxmlformats.org/officeDocument/2006/relationships/hyperlink" Target="http://tinyurl.com/pwjjxp" TargetMode="External"/><Relationship Id="rId4" Type="http://schemas.openxmlformats.org/officeDocument/2006/relationships/hyperlink" Target="http://www.linkedin.com/news?actionBar=&amp;sik=1243084993447&amp;aIdx=0&amp;articleID=32319246" TargetMode="External"/><Relationship Id="rId5" Type="http://schemas.openxmlformats.org/officeDocument/2006/relationships/hyperlink" Target="http://www.diigo.com/annotated/9a613e1a9ddb438b2d3f2dad904c4d85" TargetMode="External"/><Relationship Id="rId6" Type="http://schemas.openxmlformats.org/officeDocument/2006/relationships/hyperlink" Target="http://www.soyouwanttoteach.com/30-twitter-tips-for-teachers/" TargetMode="External"/><Relationship Id="rId7" Type="http://schemas.openxmlformats.org/officeDocument/2006/relationships/hyperlink" Target="http://educationinnovation.typepad.com/my_weblog/2009/06/leveraging-the-networked-teacher-the-professional-networked-learning-collaborative.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ohitbhargava.typepad.com/.shared/image.html?/photos/uncategorized/2008/12/17/imb_5stagesoftwitter_2.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NugRZGDbPF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3tT6N_8wcn4"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spreadsheets.google.com/ccc?key=0ArEWinLIvaYEdDlyTnVTV3JyX3d3QzhrRkJKd0tnc0E&amp;hl=en" TargetMode="External"/><Relationship Id="rId3" Type="http://schemas.openxmlformats.org/officeDocument/2006/relationships/hyperlink" Target="https://spreadsheets.google.com/ccc?key=0ArHI3R4vsM_HcFRhNE1NVzcxMG9EN3dSdlNqQWhYVVE&amp;hl=en" TargetMode="External"/><Relationship Id="rId4" Type="http://schemas.openxmlformats.org/officeDocument/2006/relationships/hyperlink" Target="http://twitter4teachers.pbworks.com/" TargetMode="External"/><Relationship Id="rId5" Type="http://schemas.openxmlformats.org/officeDocument/2006/relationships/hyperlink" Target="http://justtweetit.com/education/" TargetMode="External"/><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bde"/>
                </a:solidFill>
                <a:latin typeface="Tw Cen MT"/>
              </a:rPr>
              <a:t>TEACHERS AND</a:t>
            </a:r>
            <a:endParaRPr b="0" lang="en-US" sz="4400" spc="-1" strike="noStrike">
              <a:solidFill>
                <a:srgbClr val="eaebde"/>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w Cen MT"/>
              </a:rPr>
              <a:t>Adapted from Mary Harriet Talbut</a:t>
            </a:r>
            <a:endParaRPr b="0" lang="en-US" sz="3100" spc="-1" strike="noStrike">
              <a:solidFill>
                <a:srgbClr val="ffffff"/>
              </a:solidFill>
              <a:latin typeface="Tw Cen MT"/>
            </a:endParaRPr>
          </a:p>
        </p:txBody>
      </p:sp>
      <p:pic>
        <p:nvPicPr>
          <p:cNvPr id="352" name="Picture 2" descr="Twitter.com"/>
          <p:cNvPicPr/>
          <p:nvPr/>
        </p:nvPicPr>
        <p:blipFill>
          <a:blip r:embed="rId1"/>
          <a:stretch/>
        </p:blipFill>
        <p:spPr>
          <a:xfrm>
            <a:off x="4038480" y="4038480"/>
            <a:ext cx="3913200" cy="909720"/>
          </a:xfrm>
          <a:prstGeom prst="rect">
            <a:avLst/>
          </a:prstGeom>
          <a:ln w="0">
            <a:noFill/>
          </a:ln>
        </p:spPr>
      </p:pic>
      <p:pic>
        <p:nvPicPr>
          <p:cNvPr id="353" name="Picture 4" descr="http://www.brainybetty.com/TwitterGraphics/Picture1.jpg"/>
          <p:cNvPicPr/>
          <p:nvPr/>
        </p:nvPicPr>
        <p:blipFill>
          <a:blip r:embed="rId2"/>
          <a:stretch/>
        </p:blipFill>
        <p:spPr>
          <a:xfrm>
            <a:off x="5943600" y="152280"/>
            <a:ext cx="2857680" cy="33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ttp://www.twitter/mhtalbut</a:t>
            </a:r>
            <a:endParaRPr b="0" lang="en-US" sz="4400" spc="-1" strike="noStrike">
              <a:solidFill>
                <a:srgbClr val="676a55"/>
              </a:solidFill>
              <a:latin typeface="Tw Cen MT"/>
            </a:endParaRPr>
          </a:p>
        </p:txBody>
      </p:sp>
      <p:pic>
        <p:nvPicPr>
          <p:cNvPr id="374" name="Picture 4" descr="marlon"/>
          <p:cNvPicPr/>
          <p:nvPr/>
        </p:nvPicPr>
        <p:blipFill>
          <a:blip r:embed="rId1"/>
          <a:stretch/>
        </p:blipFill>
        <p:spPr>
          <a:xfrm>
            <a:off x="1066680" y="1521000"/>
            <a:ext cx="7359840" cy="472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676a55"/>
                </a:solidFill>
                <a:latin typeface="Tw Cen MT"/>
              </a:rPr>
              <a:t>How to Get Updates on your Phone without a Twitter Account</a:t>
            </a:r>
            <a:br>
              <a:rPr sz="4400"/>
            </a:br>
            <a:endParaRPr b="0" lang="en-US" sz="4400" spc="-1" strike="noStrike">
              <a:solidFill>
                <a:srgbClr val="676a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86000"/>
          </a:bodyPr>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ant to get updates from @Twitter but don’t want to create a Twitter account? You’re in luck! Use </a:t>
            </a:r>
            <a:r>
              <a:rPr b="1" lang="en-US" sz="2900" spc="-1" strike="noStrike">
                <a:solidFill>
                  <a:srgbClr val="000000"/>
                </a:solidFill>
                <a:latin typeface="Tw Cen MT"/>
              </a:rPr>
              <a:t>FastFollow</a:t>
            </a:r>
            <a:r>
              <a:rPr b="0" lang="en-US" sz="2900" spc="-1" strike="noStrike">
                <a:solidFill>
                  <a:srgbClr val="000000"/>
                </a:solidFill>
                <a:latin typeface="Tw Cen MT"/>
              </a:rPr>
              <a:t>.</a:t>
            </a:r>
            <a:endParaRPr b="0" lang="en-US" sz="2900" spc="-1" strike="noStrike">
              <a:solidFill>
                <a:srgbClr val="000000"/>
              </a:solidFill>
              <a:latin typeface="Tw Cen MT"/>
            </a:endParaRPr>
          </a:p>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d </a:t>
            </a:r>
            <a:r>
              <a:rPr b="1" lang="en-US" sz="2900" spc="-1" strike="noStrike">
                <a:solidFill>
                  <a:srgbClr val="000000"/>
                </a:solidFill>
                <a:latin typeface="Tw Cen MT"/>
              </a:rPr>
              <a:t>Follow [username] </a:t>
            </a:r>
            <a:r>
              <a:rPr b="0" lang="en-US" sz="2900" spc="-1" strike="noStrike">
                <a:solidFill>
                  <a:srgbClr val="000000"/>
                </a:solidFill>
                <a:latin typeface="Tw Cen MT"/>
              </a:rPr>
              <a:t>to your Twitter shortcode and you will start receiving Tweets from that user</a:t>
            </a:r>
            <a:endParaRPr b="0" lang="en-US" sz="29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on your device.</a:t>
            </a:r>
            <a:endParaRPr b="0" lang="en-US" sz="2900" spc="-1" strike="noStrike">
              <a:solidFill>
                <a:srgbClr val="000000"/>
              </a:solidFill>
              <a:latin typeface="Tw Cen MT"/>
            </a:endParaRPr>
          </a:p>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 sending </a:t>
            </a:r>
            <a:r>
              <a:rPr b="1" lang="en-US" sz="2900" spc="-1" strike="noStrike">
                <a:solidFill>
                  <a:srgbClr val="000000"/>
                </a:solidFill>
                <a:latin typeface="Tw Cen MT"/>
              </a:rPr>
              <a:t>follow ckoos1 </a:t>
            </a:r>
            <a:r>
              <a:rPr b="0" lang="en-US" sz="2900" spc="-1" strike="noStrike">
                <a:solidFill>
                  <a:srgbClr val="000000"/>
                </a:solidFill>
                <a:latin typeface="Tw Cen MT"/>
              </a:rPr>
              <a:t>to </a:t>
            </a:r>
            <a:r>
              <a:rPr b="1" lang="en-US" sz="2900" spc="-1" strike="noStrike">
                <a:solidFill>
                  <a:srgbClr val="000000"/>
                </a:solidFill>
                <a:latin typeface="Tw Cen MT"/>
              </a:rPr>
              <a:t>40404 </a:t>
            </a:r>
            <a:r>
              <a:rPr b="0" lang="en-US" sz="2900" spc="-1" strike="noStrike">
                <a:solidFill>
                  <a:srgbClr val="000000"/>
                </a:solidFill>
                <a:latin typeface="Tw Cen MT"/>
              </a:rPr>
              <a:t>on a US-based AT&amp;T phone would mean I'd start getting</a:t>
            </a:r>
            <a:endParaRPr b="0" lang="en-US" sz="29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SMS updates whenever @ckoos1 posts a Twee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Resources</a:t>
            </a:r>
            <a:endParaRPr b="0" lang="en-US" sz="4400" spc="-1" strike="noStrike">
              <a:solidFill>
                <a:srgbClr val="676a55"/>
              </a:solidFill>
              <a:latin typeface="Tw Cen MT"/>
            </a:endParaRPr>
          </a:p>
        </p:txBody>
      </p:sp>
      <p:sp>
        <p:nvSpPr>
          <p:cNvPr id="378" name=""/>
          <p:cNvSpPr txBox="1"/>
          <p:nvPr/>
        </p:nvSpPr>
        <p:spPr>
          <a:xfrm>
            <a:off x="612720" y="1599840"/>
            <a:ext cx="8153280" cy="487692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is the link for Twitter.edu or 100 great Twitter feeds to follow    </a:t>
            </a:r>
            <a:r>
              <a:rPr b="0" lang="en-US" sz="1200" spc="-1" strike="noStrike" u="sng">
                <a:solidFill>
                  <a:srgbClr val="db5353"/>
                </a:solidFill>
                <a:uFillTx/>
                <a:latin typeface="Tw Cen MT"/>
                <a:hlinkClick r:id="rId1"/>
              </a:rPr>
              <a:t>http://www.bachelorsdegreeonline.com/blog/2009/twitteredu-100-excellent-educational-twitter-feeds/</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is a blog discussing Best Practices of a Twitter enhanced High School Classroom    </a:t>
            </a:r>
            <a:r>
              <a:rPr b="0" lang="en-US" sz="1200" spc="-1" strike="noStrike" u="sng">
                <a:solidFill>
                  <a:srgbClr val="db5353"/>
                </a:solidFill>
                <a:uFillTx/>
                <a:latin typeface="Tw Cen MT"/>
                <a:hlinkClick r:id="rId2"/>
              </a:rPr>
              <a:t>http://teachpaperless.blogspot.com/2009/05/best-practices-in-twitter-enhanced-high.html</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Using Twitter to overcome Classroom isolation    </a:t>
            </a:r>
            <a:r>
              <a:rPr b="0" lang="en-US" sz="1200" spc="-1" strike="noStrike" u="sng">
                <a:solidFill>
                  <a:srgbClr val="db5353"/>
                </a:solidFill>
                <a:uFillTx/>
                <a:latin typeface="Tw Cen MT"/>
                <a:hlinkClick r:id="rId3"/>
              </a:rPr>
              <a:t>http://tinyurl.com/pwjjxp</a:t>
            </a:r>
            <a:r>
              <a:rPr b="1" lang="en-US" sz="1200" spc="-1" strike="noStrike">
                <a:solidFill>
                  <a:srgbClr val="000000"/>
                </a:solidFill>
                <a:latin typeface="Tw Cen MT"/>
              </a:rPr>
              <a:t>    </a:t>
            </a:r>
            <a:r>
              <a:rPr b="0" lang="en-US" sz="1200" spc="-1" strike="noStrike" u="sng">
                <a:solidFill>
                  <a:srgbClr val="db5353"/>
                </a:solidFill>
                <a:uFillTx/>
                <a:latin typeface="Tw Cen MT"/>
                <a:hlinkClick r:id="rId4"/>
              </a:rPr>
              <a:t>http://www.linkedin.com/news?actionBar=&amp;sik=1243084993447&amp;aIdx=0&amp;articleID=32319246</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witter tips for Teachers and Educators    </a:t>
            </a:r>
            <a:r>
              <a:rPr b="0" lang="en-US" sz="1200" spc="-1" strike="noStrike" u="sng">
                <a:solidFill>
                  <a:srgbClr val="db5353"/>
                </a:solidFill>
                <a:uFillTx/>
                <a:latin typeface="Tw Cen MT"/>
                <a:hlinkClick r:id="rId5"/>
              </a:rPr>
              <a:t>http://www.diigo.com/annotated/9a613e1a9ddb438b2d3f2dad904c4d85</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30 Twitter Tips for Teachers    </a:t>
            </a:r>
            <a:r>
              <a:rPr b="0" lang="en-US" sz="1200" spc="-1" strike="noStrike" u="sng">
                <a:solidFill>
                  <a:srgbClr val="db5353"/>
                </a:solidFill>
                <a:uFillTx/>
                <a:latin typeface="Tw Cen MT"/>
                <a:hlinkClick r:id="rId6"/>
              </a:rPr>
              <a:t>http://www.soyouwanttoteach.com/30-twitter-tips-for-teachers/</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Networked Teacher    </a:t>
            </a:r>
            <a:r>
              <a:rPr b="0" lang="en-US" sz="1200" spc="-1" strike="noStrike" u="sng">
                <a:solidFill>
                  <a:srgbClr val="db5353"/>
                </a:solidFill>
                <a:uFillTx/>
                <a:latin typeface="Tw Cen MT"/>
                <a:hlinkClick r:id="rId7"/>
              </a:rPr>
              <a:t>http://educationinnovation.typepad.com/my_weblog/2009/06/leveraging-the-networked-teacher-the-professional-networked-learning-collaborative.html</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10 Things Teachers should know to get started with Twitter    http:/http://www.youtube.com/watch?v=CbfZvyzDSYU&amp;eurl=http://mashable.com/2009/05/31/late-night-tv/&amp;feature=player_embedded</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op 7 Twitter Videos on YouTube    http://mashable.com/2009/05/31/twitter-tutorials-youtube/</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eachers and Twitter    http://mrslwalker.com/?p=79620905</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9 reasons teachers should use twitter    /azk12.org/blog/archives/46-10-Things-Teachers-Should-Know-to-Get-Started-with-Twitter.html</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o What is it?</a:t>
            </a:r>
            <a:endParaRPr b="0" lang="en-US" sz="4400" spc="-1" strike="noStrike">
              <a:solidFill>
                <a:srgbClr val="676a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Micro-blogging Platform</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140 character limit in each tweet</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ginally started as a “What are you doing” social media platform (think just Facebook’s status updates), but now it’s much more</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ver 600 million searches on Twitter each day</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rted in 2006</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5" descr="Imb_5stagesoftwitter_2">
            <a:hlinkClick r:id="rId1"/>
          </p:cNvPr>
          <p:cNvPicPr/>
          <p:nvPr/>
        </p:nvPicPr>
        <p:blipFill>
          <a:blip r:embed="rId2"/>
          <a:stretch/>
        </p:blipFill>
        <p:spPr>
          <a:xfrm>
            <a:off x="533520" y="434880"/>
            <a:ext cx="8229600" cy="590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y do I need Twitter?</a:t>
            </a:r>
            <a:endParaRPr b="0" lang="en-US" sz="4400" spc="-1" strike="noStrike">
              <a:solidFill>
                <a:srgbClr val="676a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db5353"/>
                </a:solidFill>
                <a:uFillTx/>
                <a:latin typeface="Tw Cen MT"/>
                <a:hlinkClick r:id="rId1"/>
              </a:rPr>
              <a:t>http://www.youtube.com/watch?v=NugRZGDbPFU</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y do I need Twitter?</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db5353"/>
                </a:solidFill>
                <a:uFillTx/>
                <a:latin typeface="Tw Cen MT"/>
                <a:hlinkClick r:id="rId1"/>
              </a:rPr>
              <a:t>http://www.youtube.com/watch?v=3tT6N_8wcn4</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asic Twitter Terms</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M - direct message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T - retwee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pic - hashtag used for thread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rname - reply to another user</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itly.com - a website that shortens the URL so you can fit it in your twee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asic Twitter Terms</a:t>
            </a:r>
            <a:endParaRPr b="0" lang="en-US" sz="4400" spc="-1" strike="noStrike">
              <a:solidFill>
                <a:srgbClr val="676a55"/>
              </a:solidFill>
              <a:latin typeface="Tw Cen MT"/>
            </a:endParaRPr>
          </a:p>
        </p:txBody>
      </p:sp>
      <p:sp>
        <p:nvSpPr>
          <p:cNvPr id="364" name=""/>
          <p:cNvSpPr txBox="1"/>
          <p:nvPr/>
        </p:nvSpPr>
        <p:spPr>
          <a:xfrm>
            <a:off x="609120" y="2437920"/>
            <a:ext cx="3886200" cy="358164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Either log in and type your Tweet in the message box on the Twitter website, or use the message box in your desktop app (140 characters is the maximum length of message).</a:t>
            </a:r>
            <a:endParaRPr b="0" lang="en-US" sz="3000" spc="-1" strike="noStrike">
              <a:solidFill>
                <a:srgbClr val="000000"/>
              </a:solidFill>
              <a:latin typeface="Tw Cen MT"/>
            </a:endParaRPr>
          </a:p>
        </p:txBody>
      </p:sp>
      <p:sp>
        <p:nvSpPr>
          <p:cNvPr id="365" name=""/>
          <p:cNvSpPr txBox="1"/>
          <p:nvPr/>
        </p:nvSpPr>
        <p:spPr>
          <a:xfrm>
            <a:off x="4800240" y="2437920"/>
            <a:ext cx="3886200" cy="3581640"/>
          </a:xfrm>
          <a:prstGeom prst="rect">
            <a:avLst/>
          </a:prstGeom>
          <a:noFill/>
          <a:ln w="0">
            <a:noFill/>
          </a:ln>
        </p:spPr>
        <p:txBody>
          <a:bodyPr anchor="t">
            <a:normAutofit fontScale="81000"/>
          </a:bodyPr>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 symbol, then their Twitter username, e.g.</a:t>
            </a:r>
            <a:endParaRPr b="0" lang="en-US" sz="2800" spc="-1" strike="noStrike">
              <a:solidFill>
                <a:srgbClr val="000000"/>
              </a:solidFill>
              <a:latin typeface="Tw Cen MT"/>
            </a:endParaRPr>
          </a:p>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eg: @ramskill your message, whatever it may be</a:t>
            </a:r>
            <a:endParaRPr b="0" lang="en-US" sz="2400" spc="-1" strike="noStrike">
              <a:solidFill>
                <a:srgbClr val="000000"/>
              </a:solidFill>
              <a:latin typeface="Tw Cen MT"/>
            </a:endParaRPr>
          </a:p>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ear in mind that this reply can be seen publically, by your followers and the followers of who you are replying to.</a:t>
            </a:r>
            <a:endParaRPr b="0" lang="en-US" sz="2800" spc="-1" strike="noStrike">
              <a:solidFill>
                <a:srgbClr val="000000"/>
              </a:solidFill>
              <a:latin typeface="Tw Cen MT"/>
            </a:endParaRPr>
          </a:p>
        </p:txBody>
      </p:sp>
      <p:sp>
        <p:nvSpPr>
          <p:cNvPr id="36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For general posts</a:t>
            </a:r>
            <a:endParaRPr b="0" lang="en-US" sz="2800" spc="-1" strike="noStrike">
              <a:solidFill>
                <a:srgbClr val="000000"/>
              </a:solidFill>
              <a:latin typeface="Tw Cen MT"/>
            </a:endParaRPr>
          </a:p>
        </p:txBody>
      </p:sp>
      <p:sp>
        <p:nvSpPr>
          <p:cNvPr id="36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To reply to someone</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2922421696_d5a8ca2125_o"/>
          <p:cNvPicPr/>
          <p:nvPr/>
        </p:nvPicPr>
        <p:blipFill>
          <a:blip r:embed="rId1"/>
          <a:srcRect l="12980" t="3843" r="13464" b="0"/>
          <a:stretch/>
        </p:blipFill>
        <p:spPr>
          <a:xfrm>
            <a:off x="4114800" y="1600200"/>
            <a:ext cx="5029200" cy="4930920"/>
          </a:xfrm>
          <a:prstGeom prst="rect">
            <a:avLst/>
          </a:prstGeom>
          <a:ln w="0">
            <a:noFill/>
          </a:ln>
        </p:spPr>
      </p:pic>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ere to look for followers?</a:t>
            </a:r>
            <a:endParaRPr b="0" lang="en-US" sz="4400" spc="-1" strike="noStrike">
              <a:solidFill>
                <a:srgbClr val="676a55"/>
              </a:solidFill>
              <a:latin typeface="Tw Cen MT"/>
            </a:endParaRPr>
          </a:p>
        </p:txBody>
      </p:sp>
      <p:sp>
        <p:nvSpPr>
          <p:cNvPr id="370" name=""/>
          <p:cNvSpPr txBox="1"/>
          <p:nvPr/>
        </p:nvSpPr>
        <p:spPr>
          <a:xfrm>
            <a:off x="609120" y="1588680"/>
            <a:ext cx="3886200" cy="5040360"/>
          </a:xfrm>
          <a:prstGeom prst="rect">
            <a:avLst/>
          </a:prstGeom>
          <a:noFill/>
          <a:ln w="0">
            <a:noFill/>
          </a:ln>
        </p:spPr>
        <p:txBody>
          <a:bodyPr anchor="t">
            <a:normAutofit fontScale="89000"/>
          </a:bodyPr>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who use Twitter with their students </a:t>
            </a:r>
            <a:r>
              <a:rPr b="0" lang="en-US" sz="2900" spc="-1" strike="noStrike" u="sng">
                <a:solidFill>
                  <a:srgbClr val="db5353"/>
                </a:solidFill>
                <a:uFillTx/>
                <a:latin typeface="Tw Cen MT"/>
                <a:hlinkClick r:id="rId2"/>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itter for professional development </a:t>
            </a:r>
            <a:r>
              <a:rPr b="0" lang="en-US" sz="2900" spc="-1" strike="noStrike" u="sng">
                <a:solidFill>
                  <a:srgbClr val="db5353"/>
                </a:solidFill>
                <a:uFillTx/>
                <a:latin typeface="Tw Cen MT"/>
                <a:hlinkClick r:id="rId3"/>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itter4Teachers Wiki </a:t>
            </a:r>
            <a:r>
              <a:rPr b="0" lang="en-US" sz="2900" spc="-1" strike="noStrike" u="sng">
                <a:solidFill>
                  <a:srgbClr val="db5353"/>
                </a:solidFill>
                <a:uFillTx/>
                <a:latin typeface="Tw Cen MT"/>
                <a:hlinkClick r:id="rId4"/>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Good education directory to try </a:t>
            </a:r>
            <a:r>
              <a:rPr b="0" lang="en-US" sz="3200" spc="-1" strike="noStrike" u="sng">
                <a:solidFill>
                  <a:srgbClr val="db5353"/>
                </a:solidFill>
                <a:uFillTx/>
                <a:latin typeface="Tw Cen MT"/>
                <a:hlinkClick r:id="rId5"/>
              </a:rPr>
              <a:t>Just Tweet It</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w to Use Twitter Effectively</a:t>
            </a:r>
            <a:endParaRPr b="0" lang="en-US" sz="4400" spc="-1" strike="noStrike">
              <a:solidFill>
                <a:srgbClr val="676a55"/>
              </a:solidFill>
              <a:latin typeface="Tw Cen MT"/>
            </a:endParaRPr>
          </a:p>
        </p:txBody>
      </p:sp>
      <p:sp>
        <p:nvSpPr>
          <p:cNvPr id="372" name=""/>
          <p:cNvSpPr txBox="1"/>
          <p:nvPr/>
        </p:nvSpPr>
        <p:spPr>
          <a:xfrm>
            <a:off x="612720" y="1599840"/>
            <a:ext cx="8153280" cy="372276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cus on quality, not quantity</a:t>
            </a:r>
            <a:endParaRPr b="0" lang="en-US" sz="2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mote your blog posts, ideas</a:t>
            </a:r>
            <a:endParaRPr b="0" lang="en-US" sz="2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teract (most important)</a:t>
            </a:r>
            <a:endParaRPr b="0" lang="en-US" sz="2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other people when they ask question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k Question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tweet other people’s interesting tweet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hare links to articles &amp; blog post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on’t spam people or use auto DM feature</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0:25:23Z</dcterms:created>
  <dc:creator>Mary Harriet Talbut</dc:creator>
  <dc:description/>
  <dc:language>en-US</dc:language>
  <cp:lastModifiedBy>Windows User</cp:lastModifiedBy>
  <cp:lastPrinted>2012-02-17T15:02:01Z</cp:lastPrinted>
  <dcterms:modified xsi:type="dcterms:W3CDTF">2012-02-17T15:02:58Z</dcterms:modified>
  <cp:revision>34</cp:revision>
  <dc:subject/>
  <dc:title>Teachers and</dc:title>
</cp:coreProperties>
</file>